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C5667-38D6-4D6A-B0E0-403ACCEB8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53FB6-B4FE-4972-B912-055A30462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B09B1-0768-414C-8077-549DEC319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0F6A6-E325-479B-85BA-B91264D07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B1024-1A8A-4F7C-882E-B50D346E3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FBF2E-121C-4AE3-98D9-F5453A541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CE37A-8DA9-4D5D-AEB9-13869E690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98D3F-485B-41F2-BDFD-358830890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47AE8-5D6E-44ED-A862-C9BABB442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8BDBE-2398-4E5C-9797-16887FBDA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7D291-AB4C-4B44-B9AF-3249B7762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4EF4D-EA2D-42E0-BB35-2CFDA73D1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138D7-A888-4C14-BAF1-B6D8EA66AC64}"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FRUMOS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stetică, clasa a XII-a,</a:t>
            </a:r>
            <a:r>
              <a:rPr b="0" lang="ro-RO" sz="1000" spc="-1" strike="noStrike">
                <a:solidFill>
                  <a:srgbClr val="000000"/>
                </a:solidFill>
                <a:latin typeface="Arial"/>
              </a:rPr>
              <a:t> Adrian Iorgulescu, Doina Pungă, Gheorghe Stroia)</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6"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7" name="Picture 8" descr=""/>
          <p:cNvPicPr/>
          <p:nvPr/>
        </p:nvPicPr>
        <p:blipFill>
          <a:blip r:embed="rId1"/>
          <a:stretch/>
        </p:blipFill>
        <p:spPr>
          <a:xfrm>
            <a:off x="5292720" y="177336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natural, asigurat de existenţa elementelor primordial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can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z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im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iologice.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uman, constituit din:</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corpului omenesc, alcătuită în principal din elemente naturale, native, dar şi dintr-o îndelungată şlefuire civiliza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sufletească, rezultat aproape integral al eforturilor de înnobilare umană;</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etică a vastelor relaţii dintre oameni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ambientală a locului şi rezultatele muncii omeneşt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artistic. Existenţa sa este asigurată […] d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courile reflectării frumuseţii din realitat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pacităţile demiurgice ale omului de artă care, pornind de la lumea reală, făureşte o realitate nouă.[…]</a:t>
            </a:r>
            <a:endParaRPr b="0" lang="en-US" sz="1200" spc="-1" strike="noStrike">
              <a:solidFill>
                <a:srgbClr val="000000"/>
              </a:solidFill>
              <a:latin typeface="Calibri"/>
            </a:endParaRPr>
          </a:p>
        </p:txBody>
      </p:sp>
      <p:sp>
        <p:nvSpPr>
          <p:cNvPr id="49"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6-15T12:33:34Z</dcterms:modified>
  <cp:revision>38</cp:revision>
  <dc:subject/>
  <dc:title>SALARIUL</dc:title>
</cp:coreProperties>
</file>